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314-FB5B-46C6-8BE9-1CEA99C7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B69-6C46-4B35-B129-80EC5381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191-AEF0-447C-96EF-FE8F50E3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7D0-EC54-4A7A-9A1F-9316415C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5D7-9048-47D4-A875-504A46A3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79A-4158-44F5-88AF-BFBBBBEE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79C-090D-48FF-B408-2382E2F4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13C-425D-4C14-A518-275BDA12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777-0607-428B-A7D1-7A095D1B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27B-65A0-44C4-A8A0-C009130E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CEC-533A-4B47-88FE-6E756D00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9E4-2E63-4BCB-A878-6FE251C0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FD37-4790-4393-82ED-566C64324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beff"/>
            </a:gs>
            <a:gs pos="100000">
              <a:srgbClr val="ffff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6" descr=""/>
          <p:cNvPicPr/>
          <p:nvPr/>
        </p:nvPicPr>
        <p:blipFill>
          <a:blip r:embed="rId1"/>
          <a:stretch/>
        </p:blipFill>
        <p:spPr>
          <a:xfrm>
            <a:off x="3449520" y="1295280"/>
            <a:ext cx="233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76920" y="1752120"/>
            <a:ext cx="396216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опонується ввести</a:t>
            </a:r>
            <a:br>
              <a:rPr sz="2800"/>
            </a:b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основна шко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містовну лінію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и безпеки життєдіяльності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», </a:t>
            </a:r>
            <a:br>
              <a:rPr sz="2400"/>
            </a:br>
            <a:br>
              <a:rPr sz="12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няття про безпеку і небезпеку, ризик.  Види небезпек та причини їх виникнення. Наслідки дії небезпек на людину та суспільство. Принципи безпечної життєдіяльності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світня галузь «Математи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сновна школа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 ряд змістовних ліній, зокрем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чатки теорії ймовірності та елементи статистик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»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Способи подання даних, частота, середнє значенн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uk-UA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Відповідність набутим знанням та вмінням при вивченні інших предметів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19360" y="1676160"/>
            <a:ext cx="4724280" cy="5181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опонується: 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нтовне вивчення надзвичайних ситуацій природного, техногенного і соціального походження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ерене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з основної школ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містовна ліні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Основи попередження і захисту в надзвичайних ситуація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»,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о старшої шко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містовна ліні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Основи попередження і захисту в надзвичайних ситуація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560" y="175212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світня галузь «Природознавство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арша школа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містовна ліні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графічні аспекти взаємодії людини і природ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езультати навчання, зокре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… вміють здійснювати елементарний прогноз прояву геоекологічних проблем на різних рівня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uk-UA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Відповідність набутим знанням та вмінням при вивченні інших предметів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90960" y="1676160"/>
            <a:ext cx="3352680" cy="5181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опонується ввести</a:t>
            </a:r>
            <a:br>
              <a:rPr sz="2800"/>
            </a:b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основна шко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містовну лінію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uk-UA" sz="2800" spc="-1" strike="noStrike">
                <a:solidFill>
                  <a:srgbClr val="0000ff"/>
                </a:solidFill>
                <a:latin typeface="Arial"/>
              </a:rPr>
              <a:t>Основи техніки безпеки. </a:t>
            </a:r>
            <a:r>
              <a:rPr b="0" i="1" lang="uk-UA" sz="2800" spc="-1" strike="noStrike">
                <a:solidFill>
                  <a:srgbClr val="333399"/>
                </a:solidFill>
                <a:latin typeface="Arial"/>
              </a:rPr>
              <a:t>Безпека в умовах профільного навчанн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світня галузь «Технологі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сновна школа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 змістовна ліні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удова компетентіні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міст освіт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Безпечні умови праці»,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езультати навчанн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сновна шко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«Розуміння факторів, що впливають на вибір професії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тарша школ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«Уміння раціонально організовувати трудовий процес. Уміння встановити відповідність харак-теристик технічного зразка чи процесу функціональним можливостям люди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uk-UA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Відповідність набутим знанням та вмінням при вивченні інших предметів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36720" y="1895400"/>
            <a:ext cx="0" cy="3942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36720" y="5837400"/>
            <a:ext cx="745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1640" y="570852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65400" y="569592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29160" y="570852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24680" y="5695920"/>
            <a:ext cx="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88080" y="5708520"/>
            <a:ext cx="0" cy="1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36720" y="524664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36720" y="455292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36720" y="386064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36720" y="316692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36720" y="247320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01640" y="2241360"/>
            <a:ext cx="0" cy="33526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065400" y="2241360"/>
            <a:ext cx="0" cy="33526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529160" y="2241360"/>
            <a:ext cx="0" cy="33526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124680" y="2241360"/>
            <a:ext cx="0" cy="33526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588080" y="2241360"/>
            <a:ext cx="0" cy="33526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1640" y="2473200"/>
            <a:ext cx="5986440" cy="346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601640" y="2356920"/>
            <a:ext cx="5986440" cy="10400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1640" y="2819520"/>
            <a:ext cx="5986440" cy="1503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601640" y="4438800"/>
            <a:ext cx="5986440" cy="11556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1640" y="5362560"/>
            <a:ext cx="5986440" cy="231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29160" y="4668840"/>
            <a:ext cx="3058920" cy="1155600"/>
          </a:xfrm>
          <a:custGeom>
            <a:avLst/>
            <a:gdLst/>
            <a:ahLst/>
            <a:rect l="l" t="t" r="r" b="b"/>
            <a:pathLst>
              <a:path w="3266" h="1420">
                <a:moveTo>
                  <a:pt x="0" y="1420"/>
                </a:moveTo>
                <a:cubicBezTo>
                  <a:pt x="580" y="1396"/>
                  <a:pt x="1160" y="1373"/>
                  <a:pt x="1704" y="1136"/>
                </a:cubicBezTo>
                <a:cubicBezTo>
                  <a:pt x="2248" y="899"/>
                  <a:pt x="3006" y="189"/>
                  <a:pt x="326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848720" y="5940360"/>
            <a:ext cx="10666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ік (роки)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01640" y="5940360"/>
            <a:ext cx="113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323120" y="5940360"/>
            <a:ext cx="2649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29160" y="5940360"/>
            <a:ext cx="1126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65400" y="5940360"/>
            <a:ext cx="1126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124680" y="5904000"/>
            <a:ext cx="2667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 rot="20967600">
            <a:off x="5987520" y="2204640"/>
            <a:ext cx="13305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00cc99"/>
                </a:solidFill>
                <a:latin typeface="Times New Roman"/>
              </a:rPr>
              <a:t>отруєння</a:t>
            </a:r>
            <a:endParaRPr b="0" lang="en-US" sz="1200" spc="1" strike="noStrike">
              <a:ln w="9360">
                <a:solidFill>
                  <a:srgbClr val="339933"/>
                </a:solidFill>
                <a:miter/>
              </a:ln>
              <a:solidFill>
                <a:srgbClr val="00cc99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 rot="346200">
            <a:off x="3065400" y="2359080"/>
            <a:ext cx="13305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Times New Roman"/>
              </a:rPr>
              <a:t>утоплення</a:t>
            </a:r>
            <a:endParaRPr b="0" lang="en-US" sz="12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 rot="993600">
            <a:off x="4657320" y="3514680"/>
            <a:ext cx="13302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транспорт</a:t>
            </a:r>
            <a:endParaRPr b="0" lang="en-US" sz="12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 rot="20967600">
            <a:off x="5259240" y="4460760"/>
            <a:ext cx="1798920" cy="2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електрострум</a:t>
            </a:r>
            <a:endParaRPr b="0" lang="en-US" sz="1200" spc="1" strike="noStrike">
              <a:ln w="9360">
                <a:solidFill>
                  <a:srgbClr val="cc00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 rot="212400">
            <a:off x="6705720" y="5181120"/>
            <a:ext cx="10634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ожежі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 rot="19800600">
            <a:off x="5029200" y="4800240"/>
            <a:ext cx="2394000" cy="2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гнепальна  зброя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 rot="21597600">
            <a:off x="380880" y="1469880"/>
            <a:ext cx="1973520" cy="4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ідносний рівень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шкоджень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01680" y="457200"/>
            <a:ext cx="6418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инаміка пошкоджень дітей в Україні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а чинниками ризику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4"/>
            </a:gs>
            <a:gs pos="100000">
              <a:srgbClr val="fcfe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304920"/>
            <a:ext cx="85341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66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уваження та пропозиції щодо змісту стандар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2743200"/>
            <a:ext cx="84582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Times New Roman"/>
              </a:rPr>
              <a:t>У відповідності до змісту перебудувати та сформувати такі змістовні лінії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Світоглядні основи здоров’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снови здорового способу житт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снови безпеки життєдіяльност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Безпека у повсякденному житті і в екстремальних та надзвичайних ситуація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снови першої допомо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160020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Основна школа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напрям </a:t>
            </a: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uk-UA" sz="2600" spc="-1" strike="noStrike">
                <a:solidFill>
                  <a:srgbClr val="333399"/>
                </a:solidFill>
                <a:latin typeface="Times New Roman"/>
              </a:rPr>
              <a:t>Основи здоров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uk-UA" sz="2600" spc="-1" strike="noStrike">
                <a:solidFill>
                  <a:srgbClr val="333399"/>
                </a:solidFill>
                <a:latin typeface="Times New Roman"/>
              </a:rPr>
              <a:t>я і безпеки життя</a:t>
            </a: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304920"/>
            <a:ext cx="85341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66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уваження та пропозиції щодо змісту стандар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3048120"/>
            <a:ext cx="8458200" cy="335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3333cc"/>
                </a:solidFill>
                <a:latin typeface="Times New Roman"/>
              </a:rPr>
              <a:t>У відповідності до Концепції освіти з напряму "Безпека життя і діяльності людини"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uk-UA" sz="2600" spc="-1" strike="noStrike">
                <a:solidFill>
                  <a:srgbClr val="3333cc"/>
                </a:solidFill>
                <a:latin typeface="Times New Roman"/>
              </a:rPr>
              <a:t> затвердженої Міністром освіти і науки України у 2001 році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5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Повна загальна середня освіта (10-12 класи) повинна містити такі розділи (змістовні лінії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надзвичайні ситуації;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громадська безпе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безпека в умовах профільного навчан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600200"/>
            <a:ext cx="7086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Старша школа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напрям </a:t>
            </a: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uk-UA" sz="2600" spc="-1" strike="noStrike">
                <a:solidFill>
                  <a:srgbClr val="333399"/>
                </a:solidFill>
                <a:latin typeface="Times New Roman"/>
              </a:rPr>
              <a:t>Основи військової справи, медичної підготовки і  безпеки</a:t>
            </a: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4"/>
            </a:gs>
            <a:gs pos="100000">
              <a:srgbClr val="fcfe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304920"/>
            <a:ext cx="85341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66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уваження та пропозиції щодо змісту стандар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438280"/>
            <a:ext cx="8610480" cy="414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Times New Roman"/>
              </a:rPr>
              <a:t>У відповідності до змісту перебудувати та сформувати такі змістовні лінії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снови національної та глобальної безпеки (або 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громадська безпека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національна безпека; основи військової справи та військово-патріотичне виховання, суспільна безпека (та інші види безпеки за концепцією ООН про сталий розвиток людства), глобальна безпека,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Здоровий спосіб життя та системи підтримки здоров'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снови створення безпечних і повноцінних умов для функціонування сім’ї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60020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Старша школа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, напрям </a:t>
            </a: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uk-UA" sz="2600" spc="-1" strike="noStrike">
                <a:solidFill>
                  <a:srgbClr val="333399"/>
                </a:solidFill>
                <a:latin typeface="Times New Roman"/>
              </a:rPr>
              <a:t>Основи військової справи, медичної підготовки і  безпеки</a:t>
            </a: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4"/>
            </a:gs>
            <a:gs pos="100000">
              <a:srgbClr val="fcfe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304920"/>
            <a:ext cx="85341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66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уваження та пропозиції щодо змісту стандар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2666880"/>
            <a:ext cx="8458200" cy="350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Times New Roman"/>
              </a:rPr>
              <a:t>У відповідності до змісту перебудувати та сформувати такі змістовні лінії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снови попередження і захисту в надзвичайних ситуація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снови медичних знань і надання першої допомог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снови техніки безпеки. Безпека в умовах профільного навчан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0020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Старша школа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, напрям </a:t>
            </a: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uk-UA" sz="2600" spc="-1" strike="noStrike">
                <a:solidFill>
                  <a:srgbClr val="333399"/>
                </a:solidFill>
                <a:latin typeface="Times New Roman"/>
              </a:rPr>
              <a:t>Основи військової справи, медичної підготовки і  безпеки</a:t>
            </a: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4"/>
            </a:gs>
            <a:gs pos="100000">
              <a:srgbClr val="fcfe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304920"/>
            <a:ext cx="85341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c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уваження та пропозиції щодо назв освітньої галузі, напрямів, змістовних ліній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5334120"/>
            <a:ext cx="3809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Times New Roman"/>
              </a:rPr>
              <a:t>Здоров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uk-UA" sz="2600" spc="-1" strike="noStrike">
                <a:solidFill>
                  <a:srgbClr val="333399"/>
                </a:solidFill>
                <a:latin typeface="Times New Roman"/>
              </a:rPr>
              <a:t>я, безпека, і медична підготов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5334120"/>
            <a:ext cx="3429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333399"/>
                </a:solidFill>
                <a:latin typeface="Times New Roman"/>
              </a:rPr>
              <a:t>Основи військової справи, медичної підготовки і  безпек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15238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світня галуз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981080"/>
            <a:ext cx="3200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Times New Roman"/>
              </a:rPr>
              <a:t>Здоров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uk-UA" sz="2600" spc="-1" strike="noStrike">
                <a:solidFill>
                  <a:srgbClr val="333399"/>
                </a:solidFill>
                <a:latin typeface="Times New Roman"/>
              </a:rPr>
              <a:t>я і фізична культу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1981080"/>
            <a:ext cx="3200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Times New Roman"/>
              </a:rPr>
              <a:t>Здоров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uk-UA" sz="2600" spc="-1" strike="noStrike">
                <a:solidFill>
                  <a:srgbClr val="333399"/>
                </a:solidFill>
                <a:latin typeface="Times New Roman"/>
              </a:rPr>
              <a:t>я, безпека і фізична культу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419720"/>
            <a:ext cx="579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Старша школа, напря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48769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Фізична культу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8769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Фізична культу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3657600"/>
            <a:ext cx="3809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Основи здоров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я  і безпеки житт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6576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Основи здоров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я  і безпеки житт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2819520"/>
            <a:ext cx="579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Основна школа, напря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20040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Фізична культу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320040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Фізична культу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4"/>
            </a:gs>
            <a:gs pos="100000">
              <a:srgbClr val="fcfe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304920"/>
            <a:ext cx="85341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кретні пропозиції щодо текту «змісту освіти» та «результатів навчання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828800"/>
            <a:ext cx="84582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о змісту загальної характеристики галузі ввести поняття про формування здоров’я, адже в період навчання в основній та й у старшій школі організм людини ще росте та формується, в цей же чай іде фізіологічна перебудова організму, зміна психі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формулювати у  змістовній лінії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Безпека у повсякденному житті і в екстремальних та надзвичайних ситуаціях”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3333cc"/>
                </a:solidFill>
                <a:latin typeface="Times New Roman"/>
              </a:rPr>
              <a:t>Засоби індивідуальної та колективної безпеки. Методи захисту..</a:t>
            </a:r>
            <a:r>
              <a:rPr b="0" lang="uk-UA" sz="2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ичини і наслідки отруєння природним або чадним газом,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хімічними речовинами (побутова хімія). Техніка безпеки при використанні побутової техніки та комп’ют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Пропозиції та зауваження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до змісту освітньої галузі "Здоров’я і фізична культура" проекту стандарту освіти середньої школи.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кспертиза з напряму основ безпеки життєдіяльності та допризовної підготов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4648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f707"/>
                </a:solidFill>
                <a:latin typeface="Times New Roman"/>
              </a:rPr>
              <a:t>Державні стандарти базової і повної середньої освіти (проект). // Освіта України. № 1-2. 14 січня 2003..  С. 2-14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5791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Заплатинский Василь Миронович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, голова науково-методичної комісії з безпеки життєдіяльності науково-методичної Ради МОН України, к.с.-г.н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0492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Wingdings"/>
                <a:ea typeface="Wingdings"/>
              </a:rPr>
              <a:t>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4"/>
            </a:gs>
            <a:gs pos="100000">
              <a:srgbClr val="fcfe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304920"/>
            <a:ext cx="85341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кретні пропозиції щодо текту «змісту освіти» та «результатів навчання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82880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о змісту змістовної лінії ”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Безпека у повсякденному житті і в екстремальних та надзвичайних ситуаціях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діл “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езпека в природі”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одати “</a:t>
            </a:r>
            <a:r>
              <a:rPr b="0" lang="uk-UA" sz="2400" spc="-1" strike="noStrike">
                <a:solidFill>
                  <a:srgbClr val="3333cc"/>
                </a:solidFill>
                <a:latin typeface="Times New Roman"/>
              </a:rPr>
              <a:t>Виживання в автономній ситуації</a:t>
            </a:r>
            <a:r>
              <a:rPr b="0" lang="uk-UA" sz="2400" spc="-1" strike="noStrike">
                <a:solidFill>
                  <a:srgbClr val="008000"/>
                </a:solidFill>
                <a:latin typeface="Times New Roman"/>
              </a:rPr>
              <a:t>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діл</a:t>
            </a:r>
            <a:r>
              <a:rPr b="0" lang="uk-UA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ромадська безпека”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одати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“...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нападі терористів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Із змістовної лінії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“Основи першої допомоги”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основна школа)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лучити: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“...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шоку, алергічній реакції, лихоманці, застуді, замерзанні, відмороженнях, отруєннях; незначних кровотечах електротравмах; утопленні, опіках.”,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що не у всіх випадках відповідає можливостям учнів даної вікової групи та буде конкретизовано у програмі предме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228600"/>
            <a:ext cx="8534160" cy="1295280"/>
          </a:xfrm>
          <a:prstGeom prst="downArrow">
            <a:avLst>
              <a:gd name="adj1" fmla="val 57287"/>
              <a:gd name="adj2" fmla="val 52083"/>
            </a:avLst>
          </a:prstGeom>
          <a:gradFill rotWithShape="0">
            <a:gsLst>
              <a:gs pos="0">
                <a:srgbClr val="000000"/>
              </a:gs>
              <a:gs pos="5000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Виснов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600200"/>
            <a:ext cx="9144000" cy="487692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13502" dir="20006097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2438280"/>
            <a:ext cx="73152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</a:t>
            </a:r>
            <a:r>
              <a:rPr b="1" lang="uk-UA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3333cc"/>
                </a:solidFill>
                <a:latin typeface="Times New Roman"/>
              </a:rPr>
              <a:t>Зміст напрямку “Основи здоров'я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та безпеки життя»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сновна школа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екомендуєть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рийняти за основу і доопрацюва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 урахуванням зауважень і пропозиці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</a:t>
            </a:r>
            <a:r>
              <a:rPr b="1" lang="uk-UA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3333cc"/>
                </a:solidFill>
                <a:latin typeface="Times New Roman"/>
              </a:rPr>
              <a:t>Зміст напрямку з питань здоров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3333cc"/>
                </a:solidFill>
                <a:latin typeface="Times New Roman"/>
              </a:rPr>
              <a:t>я безпеки медичних знань та допризовної підготовки </a:t>
            </a: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старшої школи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екомендувати 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суттєво доопрацювати</a:t>
            </a:r>
            <a:r>
              <a:rPr b="1" lang="uk-UA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beff"/>
            </a:gs>
            <a:gs pos="100000">
              <a:srgbClr val="ffff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mage6" descr=""/>
          <p:cNvPicPr/>
          <p:nvPr/>
        </p:nvPicPr>
        <p:blipFill>
          <a:blip r:embed="rId1"/>
          <a:stretch/>
        </p:blipFill>
        <p:spPr>
          <a:xfrm>
            <a:off x="3449520" y="1295280"/>
            <a:ext cx="233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Times New Roman"/>
              </a:rPr>
              <a:t>Глобалізація, нові технології, нові типи взаємозв’язку людини і суспільства та багато інших причин, як зазначив </a:t>
            </a: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Міністр освіти і науки України В. Г. Кремень</a:t>
            </a:r>
            <a:r>
              <a:rPr b="0" lang="uk-UA" sz="2800" spc="-1" strike="noStrike">
                <a:solidFill>
                  <a:srgbClr val="333399"/>
                </a:solidFill>
                <a:latin typeface="Times New Roman"/>
              </a:rPr>
              <a:t> спонукали до запровадження вивчення безпеки життєдіяльності в середній та вищій школі. Адже неможливо підготувати людину до повноцінного, безпечного і тривалого життя, якщо не давати спеціальних знань щодо цього.</a:t>
            </a:r>
            <a:r>
              <a:rPr b="0" lang="uk-UA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ихайлик А. Школа вчить і вчиться сама. Інтервю з Мініст-ром освіти і науки України В.Г Кременем // Надзвичайна ситуація.  К.: Чорнобильінтерінформ, 2002, №  с. 8-11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3049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ажливість проблеми відмічен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Структура Державних стандартів базової і повної середньої освіти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сновна шко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р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240" y="198072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тарша шко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р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2004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ізична куль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320040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ізична куль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86200"/>
            <a:ext cx="3886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и здоровя і безпеки житт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3962520"/>
            <a:ext cx="3886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и військової справи,             медичної підготовки і безпе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133720"/>
            <a:ext cx="152280" cy="4724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2971800"/>
            <a:ext cx="1143000" cy="380880"/>
          </a:xfrm>
          <a:prstGeom prst="downArrow">
            <a:avLst>
              <a:gd name="adj1" fmla="val 43333"/>
              <a:gd name="adj2" fmla="val 5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2971800"/>
            <a:ext cx="1143000" cy="380880"/>
          </a:xfrm>
          <a:prstGeom prst="downArrow">
            <a:avLst>
              <a:gd name="adj1" fmla="val 46667"/>
              <a:gd name="adj2" fmla="val 5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86400" y="5867280"/>
            <a:ext cx="1295280" cy="6098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5486400"/>
            <a:ext cx="129528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867280"/>
            <a:ext cx="1357560" cy="6098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4724280"/>
            <a:ext cx="12952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c8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5486400"/>
            <a:ext cx="135756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5867280"/>
            <a:ext cx="1357200" cy="6098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 кожному етапі навчання формуються необхідні вміння та знання, а також є базою для подальшої підготов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1905120"/>
            <a:ext cx="174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Times New Roman"/>
              </a:rPr>
              <a:t>Основна школ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19051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Times New Roman"/>
              </a:rPr>
              <a:t>Старша школ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9051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Times New Roman"/>
              </a:rPr>
              <a:t>Початкова школ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19051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Times New Roman"/>
              </a:rPr>
              <a:t>Вища школ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867280"/>
            <a:ext cx="1357200" cy="6098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2819520"/>
            <a:ext cx="1295280" cy="213336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fd842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4267080"/>
            <a:ext cx="1357560" cy="137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e6f7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5029200"/>
            <a:ext cx="1357200" cy="1066680"/>
          </a:xfrm>
          <a:prstGeom prst="rect">
            <a:avLst/>
          </a:prstGeom>
          <a:gradFill rotWithShape="0">
            <a:gsLst>
              <a:gs pos="0">
                <a:srgbClr val="e6f707"/>
              </a:gs>
              <a:gs pos="100000">
                <a:srgbClr val="03d4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 rot="20563800">
            <a:off x="446040" y="3448080"/>
            <a:ext cx="435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fc8502"/>
                    </a:gs>
                  </a:gsLst>
                  <a:lin ang="5400000"/>
                </a:gradFill>
                <a:latin typeface="Impact"/>
              </a:rPr>
              <a:t>знання та вміння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0066"/>
                  </a:gs>
                  <a:gs pos="100000">
                    <a:srgbClr val="fc85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218960" y="4114800"/>
            <a:ext cx="1600200" cy="16765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4114800"/>
            <a:ext cx="26668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4114800"/>
            <a:ext cx="99036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4114800"/>
            <a:ext cx="0" cy="990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6477120"/>
            <a:ext cx="5257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6095880"/>
            <a:ext cx="3657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5638680"/>
            <a:ext cx="2133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495288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5867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5029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4267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5238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Times New Roman"/>
              </a:rPr>
              <a:t>Весь комплекс </a:t>
            </a:r>
            <a:r>
              <a:rPr b="1" lang="ru-RU" sz="2600" spc="-1" strike="noStrike" u="sng">
                <a:solidFill>
                  <a:srgbClr val="333399"/>
                </a:solidFill>
                <a:uFillTx/>
                <a:latin typeface="Times New Roman"/>
              </a:rPr>
              <a:t>знань</a:t>
            </a:r>
            <a:r>
              <a:rPr b="1" lang="ru-RU" sz="2600" spc="-1" strike="noStrike">
                <a:solidFill>
                  <a:srgbClr val="333399"/>
                </a:solidFill>
                <a:latin typeface="Times New Roman"/>
              </a:rPr>
              <a:t> та </a:t>
            </a:r>
            <a:r>
              <a:rPr b="1" lang="ru-RU" sz="2600" spc="-1" strike="noStrike" u="sng">
                <a:solidFill>
                  <a:srgbClr val="333399"/>
                </a:solidFill>
                <a:uFillTx/>
                <a:latin typeface="Times New Roman"/>
              </a:rPr>
              <a:t>вмі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2819520"/>
            <a:ext cx="1295640" cy="213336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fd842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8880" y="4267080"/>
            <a:ext cx="1295640" cy="137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e6f7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5029200"/>
            <a:ext cx="1295640" cy="1066680"/>
          </a:xfrm>
          <a:prstGeom prst="rect">
            <a:avLst/>
          </a:prstGeom>
          <a:gradFill rotWithShape="0">
            <a:gsLst>
              <a:gs pos="0">
                <a:srgbClr val="e6f707"/>
              </a:gs>
              <a:gs pos="100000">
                <a:srgbClr val="03d4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38880" y="5867280"/>
            <a:ext cx="1295640" cy="6098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Times New Roman"/>
              </a:rPr>
              <a:t>Чітке визначення небезпек для кожної вікової категорії учнів, а в подальшому студентів дасть змогу забезпеч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560" y="19051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5840" indent="-285840">
              <a:spcBef>
                <a:spcPts val="649"/>
              </a:spcBef>
              <a:buClr>
                <a:srgbClr val="3333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циклічність навчання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49"/>
              </a:spcBef>
              <a:buClr>
                <a:srgbClr val="3333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сформувати логічну схему загальної стратегії і тактики забезпечення безпеки людини</a:t>
            </a:r>
            <a:r>
              <a:rPr b="0" lang="uk-UA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49528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що повинно знайти відображення у формуванні тематики безпеки життєдіяльності.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3657600"/>
            <a:ext cx="4572000" cy="990720"/>
          </a:xfrm>
          <a:prstGeom prst="downArrow">
            <a:avLst>
              <a:gd name="adj1" fmla="val 43185"/>
              <a:gd name="adj2" fmla="val 50000"/>
            </a:avLst>
          </a:prstGeom>
          <a:gradFill rotWithShape="0">
            <a:gsLst>
              <a:gs pos="0">
                <a:srgbClr val="ffebfa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Times New Roman"/>
              </a:rPr>
              <a:t>Змістовна частина стандартів, зокрема в освітній галузі "Здоров’я і фізична культура" повинна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uk-UA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пиратися на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чинні державні та міжнародні законодавчі та нормативні ак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Концепцію освіти з напряму "Безпека життя і діяльності людини”; затверджену Міністром освіти і науки України у 2001 році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статистику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наукові дослідження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досвід фахівців (міністерства, відомства, служби), педагогів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думку громадськості (батьків, громадських організацій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Times New Roman"/>
              </a:rPr>
              <a:t>Змістовна частина стандартів, зокрема в освітній галузі "Здоров’я і фізична культура" повинна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uk-UA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раховувати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Відповідність набутим знанням та вмінням при вивченні інших предметі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Відповідність віку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Можливість освіти мінімум двома взаємодоповнюючими шляхами: через основну (для навчальної програми певного рівня освіти) дисципліну та інтегративні взаємозв'язки з іншими дисциплін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Динаміку пошкоджень дітей різних вікових груп в Україні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76920" y="1752120"/>
            <a:ext cx="396216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основна шко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містовні лінії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Соціальна складова здор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»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Психічна і духовна складова здор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тя про психічну і духовну складову здор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br>
              <a:rPr sz="2400"/>
            </a:b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тарша школ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ння та вміння </a:t>
            </a: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ідсутні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світня галузь «Суспільствознавство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арша школа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 ряд змістовних ліній, зокрем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Єдність і зростання взаємозалежності сучасного людства»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Ціннісні виміри людин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uk-UA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Відповідність набутим знанням та вмінням при вивченні інших предметів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21:26:19Z</dcterms:created>
  <dc:creator>Заплатинський В.М.</dc:creator>
  <dc:description/>
  <dc:language>en-US</dc:language>
  <cp:lastModifiedBy>Заплатинський В.М.</cp:lastModifiedBy>
  <dcterms:modified xsi:type="dcterms:W3CDTF">2003-02-13T09:31:20Z</dcterms:modified>
  <cp:revision>10</cp:revision>
  <dc:subject/>
  <dc:title>Пропозиції та зауваження до змісту освітньої галузі "Здоров’я і фізична культура" проекту стандарту освіти середньої школи.  (експертиза з напряму основ безпеки життєдіяльності та допризовної підготовки)</dc:title>
</cp:coreProperties>
</file>